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A81-2F79-4057-BA6F-F22E7DF0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72B-9572-489A-88B6-ED3FAFA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75D-53D4-4EA7-B047-AB10D8E1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723-5011-481A-B284-7442F9C1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55E-9741-4F6D-B91C-D2062F6C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87B-438A-4CEA-8D0E-87B2ACB3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64C-8B7F-4695-9D96-77B7132D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CAB-71F1-451C-9DFA-F618AB9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7D7-2BC8-41CC-B5CC-E2E24E29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FA3-8604-45A0-9E8D-2B56661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5B7-F840-4271-9908-F155DE9B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B4C-A737-4DE1-9D46-42351FF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F6D8-D1FE-48EF-AA36-6E54D1D63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christianfly.com/upload/ice_cube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neiu.edu/~ncaftori/falls/rainbow-again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sfheart.com/images/rainbow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www.eu-greenlight.org/Competition/Pictures/Designers/Lamp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xcaliburelectronics.com/images/public_relations/flashlight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gw.marketingden.com/planets/images/fullsize/thesun.jpg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pinker.wjh.harvard.edu/photos/cape_cod_II/images/sun%20setting%20over%20Pilgrim%20Monument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astro.uchicago.edu/cara/vtour/pole/dome/life/sun/marequinox2.jpg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thecoss.co.uk/Gas%20Stove.JPG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dubie.morpheus.net/pictures/Dinner_Greer_MissyB/stove.JPG" TargetMode="External"/><Relationship Id="rId13" Type="http://schemas.openxmlformats.org/officeDocument/2006/relationships/image" Target="../media/image16.jpeg"/><Relationship Id="rId14" Type="http://schemas.openxmlformats.org/officeDocument/2006/relationships/hyperlink" Target="http://www.photo.net/photo/pcd0801/ge-cooking-burger-38.4.jpg" TargetMode="External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ireplaceWithFire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www.heidiandstew.com/Izzy&apos;s%20Pictures%20Link/JPG%20files/izzy%20singing%20at%20the%20piano.jpe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www.mccullagh.org/db9/1ds2-2/ear-closeup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stillburning.com/thephotos/electricity.jpg" TargetMode="External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benesense.com/images/LightBulb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en.wikipedia.org/wiki/Image:Lightning_in_Arlington.jpg" TargetMode="External"/><Relationship Id="rId5" Type="http://schemas.openxmlformats.org/officeDocument/2006/relationships/image" Target="../media/image25.jpeg"/><Relationship Id="rId6" Type="http://schemas.openxmlformats.org/officeDocument/2006/relationships/hyperlink" Target="http://www.wisinfo.com/newsherald/photogallery/fire/images/Wires%20spark.jpg" TargetMode="External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s.cornell.edu/People/egs/magnetos/pics/magnet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www.chu.cam.ac.uk/~JRS47/switch.jpg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www.chemcraftind.com/images/electric_cord.jpg" TargetMode="External"/><Relationship Id="rId7" Type="http://schemas.openxmlformats.org/officeDocument/2006/relationships/image" Target="../media/image31.jpeg"/><Relationship Id="rId8" Type="http://schemas.openxmlformats.org/officeDocument/2006/relationships/hyperlink" Target="http://www.dakotaelectric.com/images/plug.jpg" TargetMode="External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ura.speedera.net/ccimg.catalogcity.com/210000/213000/213050/Products/7686431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2819160" cy="203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505320"/>
            <a:ext cx="2057400" cy="1901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09480" y="30492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21948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91320" y="380880"/>
            <a:ext cx="2209680" cy="3009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809880"/>
            <a:ext cx="2057400" cy="155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3581280"/>
            <a:ext cx="2286000" cy="1755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38098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Table Lamp"/>
          <p:cNvPicPr/>
          <p:nvPr/>
        </p:nvPicPr>
        <p:blipFill>
          <a:blip r:embed="rId1"/>
          <a:stretch/>
        </p:blipFill>
        <p:spPr>
          <a:xfrm>
            <a:off x="609480" y="457200"/>
            <a:ext cx="141948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819520"/>
            <a:ext cx="1752480" cy="15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685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29200" y="7621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66880" y="2971800"/>
            <a:ext cx="1905120" cy="1415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181480" y="2666880"/>
            <a:ext cx="2514600" cy="188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480" y="4724280"/>
            <a:ext cx="2514600" cy="1881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038480" y="4876920"/>
            <a:ext cx="259092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A natural gas fireplace with a burning fir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9880" y="609480"/>
            <a:ext cx="3610080" cy="274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3276720"/>
            <a:ext cx="2895840" cy="191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86200" y="3809880"/>
            <a:ext cx="121284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3886200"/>
            <a:ext cx="24382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159000" cy="350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609480"/>
            <a:ext cx="17269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Lightning over Pentagon City in Arlington County, Virgin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4114800"/>
            <a:ext cx="2457720" cy="221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77120" y="609480"/>
            <a:ext cx="194616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Electronic Circut Board"/>
          <p:cNvPicPr/>
          <p:nvPr/>
        </p:nvPicPr>
        <p:blipFill>
          <a:blip r:embed="rId8"/>
          <a:stretch/>
        </p:blipFill>
        <p:spPr>
          <a:xfrm>
            <a:off x="1295280" y="4352760"/>
            <a:ext cx="30481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685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76720" y="609480"/>
            <a:ext cx="3809880" cy="275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2971800"/>
            <a:ext cx="175248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48120" y="3429000"/>
            <a:ext cx="2361960" cy="1738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5880" y="3657600"/>
            <a:ext cx="1667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685800"/>
            <a:ext cx="2743200" cy="205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91120" y="685800"/>
            <a:ext cx="1728720" cy="243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85800" y="3505320"/>
            <a:ext cx="222408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962520" y="3733920"/>
            <a:ext cx="2209680" cy="182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477120" y="609480"/>
            <a:ext cx="1981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08:49Z</dcterms:created>
  <dc:creator>Judi</dc:creator>
  <dc:description/>
  <dc:language>en-US</dc:language>
  <cp:lastModifiedBy>Judith M Paradis</cp:lastModifiedBy>
  <dcterms:modified xsi:type="dcterms:W3CDTF">2007-12-20T20:16:18Z</dcterms:modified>
  <cp:revision>8</cp:revision>
  <dc:subject/>
  <dc:title>Slide 1</dc:title>
</cp:coreProperties>
</file>